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0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2760" y="93610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12C3-A05D-4BCB-86FD-21C42C4A7E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BCDC-F8EB-4218-9271-7AD419B35C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A776-F5F8-48F2-8903-42E13DD00F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5036-B80D-45DB-8473-CEEB544E89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76CC-F561-4F7D-B086-5D2AEDA413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60E2-081E-4173-92EA-624F808A64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ADAC-FD2A-45DD-8262-DB7F9AB1FC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0E35-1412-46D6-99A3-58A527F1D3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56A2-E348-4487-B20C-3F6BBF3387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E008-F921-44FE-B88D-3D2E6F3E50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6A36-DAD6-464E-8F8B-3797F9348C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88DB-11F3-4F51-9592-88FEFDD48B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1E11-8732-41F9-A60D-F40B9EF52E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594D-C80B-40BA-9C76-2DABAC86CF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3F4A-A094-4762-8D0E-FFB2950E55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4AC2-815B-4601-A27D-9CD71F1A3B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DFD4-00A2-46A4-B020-536E20DD37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BB23-DF4B-4663-8AED-AE84B70626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762D-41F1-4BC9-A7D4-E5E2FDAE41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6582-B34C-4D0A-8824-449FB05C51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C7B9-9659-4786-B615-79D61AC916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B6CA-05C2-4DDC-8BB8-A7AC6E8D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224E-C44E-464B-A16E-F0707DDB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63E9-7909-41B6-AC5F-CBC4521F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A4F-1814-4DBB-8E62-BC5B2787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0849-4272-4CCE-9831-4F3C5EAE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C204-61B9-45C8-AA88-477B2822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C0D1-527E-4906-9DCE-44BA68E2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3DA-FDDD-4B7E-9946-2B9DC390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4173-35C0-446B-8587-9130B3A0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110C-F24D-4D20-8886-DFFABE51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6D50-B9CD-4EEF-A72B-415CADF1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01C3-818C-45CD-AB20-0C2BEEAF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2F4E-422D-4249-8C3E-3193DA28F00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F01C-706F-42B6-BFA3-1F20EBC37F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раткие итоги деятельности Московского космического клу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5229000"/>
            <a:ext cx="640080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 15-летию с осн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904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на 1991 г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рабо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равительством РСФСР (В.Булгак, И.Силаев, М.Мал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2 мая 1991 г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кончательная редакция брошюры "Космонавтика - предложено выжить" с проектом космической доктрины ССС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 июля 1991 г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 «Комсомольской правде» опубликован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цепция космической политики России и Российского космического агент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Рабочая группа по космонавтике Правительства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густ 1991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ГКЧП, фактический распад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 сентября 1991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создание космического агентства Казахстана. Встреча членов Клуба с М.Малеем по вопросам ре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 сентября 1991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распоряжением М.Малея образована Рабочая группа по космонав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3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22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Деятельность Рабочей группы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(сбор и анализ предложе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SWScan00011"/>
          <p:cNvPicPr/>
          <p:nvPr/>
        </p:nvPicPr>
        <p:blipFill>
          <a:blip r:embed="rId2"/>
          <a:stretch/>
        </p:blipFill>
        <p:spPr>
          <a:xfrm>
            <a:off x="179280" y="1231920"/>
            <a:ext cx="3295800" cy="198108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3" name="Picture 6" descr="SWScan00014"/>
          <p:cNvPicPr/>
          <p:nvPr/>
        </p:nvPicPr>
        <p:blipFill>
          <a:blip r:embed="rId3"/>
          <a:stretch/>
        </p:blipFill>
        <p:spPr>
          <a:xfrm>
            <a:off x="5435640" y="1773360"/>
            <a:ext cx="3543120" cy="122400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4" name="Picture 7" descr="SWScan00013"/>
          <p:cNvPicPr/>
          <p:nvPr/>
        </p:nvPicPr>
        <p:blipFill>
          <a:blip r:embed="rId4"/>
          <a:stretch/>
        </p:blipFill>
        <p:spPr>
          <a:xfrm>
            <a:off x="4127400" y="1268280"/>
            <a:ext cx="3540240" cy="69696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5" name="Picture 8" descr="SWScan00019"/>
          <p:cNvPicPr/>
          <p:nvPr/>
        </p:nvPicPr>
        <p:blipFill>
          <a:blip r:embed="rId5"/>
          <a:stretch/>
        </p:blipFill>
        <p:spPr>
          <a:xfrm>
            <a:off x="5867280" y="4145040"/>
            <a:ext cx="3025800" cy="217800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6" name="Picture 9" descr="SWScan00018"/>
          <p:cNvPicPr/>
          <p:nvPr/>
        </p:nvPicPr>
        <p:blipFill>
          <a:blip r:embed="rId6"/>
          <a:stretch/>
        </p:blipFill>
        <p:spPr>
          <a:xfrm>
            <a:off x="5364000" y="3284640"/>
            <a:ext cx="2303640" cy="91764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7" name="Picture 10" descr="SWScan00021"/>
          <p:cNvPicPr/>
          <p:nvPr/>
        </p:nvPicPr>
        <p:blipFill>
          <a:blip r:embed="rId7"/>
          <a:stretch/>
        </p:blipFill>
        <p:spPr>
          <a:xfrm>
            <a:off x="2124000" y="4653000"/>
            <a:ext cx="2664000" cy="168588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8" name="Picture 11" descr="SWScan00020"/>
          <p:cNvPicPr/>
          <p:nvPr/>
        </p:nvPicPr>
        <p:blipFill>
          <a:blip r:embed="rId8"/>
          <a:stretch/>
        </p:blipFill>
        <p:spPr>
          <a:xfrm>
            <a:off x="469800" y="3836880"/>
            <a:ext cx="3597480" cy="92412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9" name="Picture 12" descr="SWScan00012"/>
          <p:cNvPicPr/>
          <p:nvPr/>
        </p:nvPicPr>
        <p:blipFill>
          <a:blip r:embed="rId9"/>
          <a:stretch/>
        </p:blipFill>
        <p:spPr>
          <a:xfrm>
            <a:off x="1258920" y="2781360"/>
            <a:ext cx="3375000" cy="92700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629928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упили сотни документов от организаций и специали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SWScan00034"/>
          <p:cNvPicPr/>
          <p:nvPr/>
        </p:nvPicPr>
        <p:blipFill>
          <a:blip r:embed="rId2"/>
          <a:stretch/>
        </p:blipFill>
        <p:spPr>
          <a:xfrm>
            <a:off x="5364000" y="1197000"/>
            <a:ext cx="3292560" cy="424800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788000" y="5661000"/>
            <a:ext cx="403848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5 февраля 1992 г. образовано Российское космическое агент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SWScan00035"/>
          <p:cNvPicPr/>
          <p:nvPr/>
        </p:nvPicPr>
        <p:blipFill>
          <a:blip r:embed="rId3"/>
          <a:stretch/>
        </p:blipFill>
        <p:spPr>
          <a:xfrm>
            <a:off x="4284720" y="4365720"/>
            <a:ext cx="3289320" cy="115236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5" name="Picture 5" descr="SWScan00010"/>
          <p:cNvPicPr/>
          <p:nvPr/>
        </p:nvPicPr>
        <p:blipFill>
          <a:blip r:embed="rId4"/>
          <a:srcRect l="0" t="0" r="-337" b="0"/>
          <a:stretch/>
        </p:blipFill>
        <p:spPr>
          <a:xfrm>
            <a:off x="523800" y="1182600"/>
            <a:ext cx="3111480" cy="440712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5673600"/>
            <a:ext cx="403848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екабре 1991 г. подписано Соглашение о сотрудничестве между странами СНГ в области К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title"/>
          </p:nvPr>
        </p:nvSpPr>
        <p:spPr>
          <a:xfrm>
            <a:off x="1249200" y="53640"/>
            <a:ext cx="771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66"/>
                </a:solidFill>
                <a:latin typeface="Arial"/>
              </a:rPr>
              <a:t>Результаты деятельности Рабочей групп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-1800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Закон РФ «О космической деятель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атывался членами Клуба (В.Постышев, И.Моисеев, А.Рудев, С.Кричевский, Н.Фефелов, А.Лапшин) по договору  между Верховным Советом РФ и МК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один закон того времени не отрабатывался так основательно. От имени ВС РФ был сделан запрос в 200 (!) адресов. Поступили ответы от субъектов Федерации, предприятий и организа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 подписан Президентом России в октябре 1993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хив отзывов сохранён во время событий октября 1993 г. и может быть использован для дальнейшей законотвор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zak"/>
          <p:cNvPicPr/>
          <p:nvPr/>
        </p:nvPicPr>
        <p:blipFill>
          <a:blip r:embed="rId2"/>
          <a:stretch/>
        </p:blipFill>
        <p:spPr>
          <a:xfrm>
            <a:off x="1332000" y="5240160"/>
            <a:ext cx="6549840" cy="150192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p:transition>
    <p:wheel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3" descr="SWScan00043"/>
          <p:cNvPicPr/>
          <p:nvPr/>
        </p:nvPicPr>
        <p:blipFill>
          <a:blip r:embed="rId1"/>
          <a:stretch/>
        </p:blipFill>
        <p:spPr>
          <a:xfrm>
            <a:off x="179280" y="4076640"/>
            <a:ext cx="1866960" cy="264816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13" name="Picture 11" descr="Рисунок1"/>
          <p:cNvPicPr/>
          <p:nvPr/>
        </p:nvPicPr>
        <p:blipFill>
          <a:blip r:embed="rId2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292720" y="5516640"/>
            <a:ext cx="3456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дание бюллетеня в США (1993-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640" y="6021000"/>
            <a:ext cx="4176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ие в инновационных проек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7740720" y="429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612720" y="3402000"/>
            <a:ext cx="374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речи с деятелями мировой космонав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1258920" y="-360"/>
            <a:ext cx="743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Международное сотрудничество Клуб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" descr="SWScan00042"/>
          <p:cNvPicPr/>
          <p:nvPr/>
        </p:nvPicPr>
        <p:blipFill>
          <a:blip r:embed="rId3"/>
          <a:stretch/>
        </p:blipFill>
        <p:spPr>
          <a:xfrm>
            <a:off x="1763640" y="4149720"/>
            <a:ext cx="2597400" cy="174960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20" name="Picture 14" descr="SWScan00041"/>
          <p:cNvPicPr/>
          <p:nvPr/>
        </p:nvPicPr>
        <p:blipFill>
          <a:blip r:embed="rId4"/>
          <a:stretch/>
        </p:blipFill>
        <p:spPr>
          <a:xfrm>
            <a:off x="250920" y="1268280"/>
            <a:ext cx="4317840" cy="205452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21" name="Picture 15" descr="SWScan00044"/>
          <p:cNvPicPr/>
          <p:nvPr/>
        </p:nvPicPr>
        <p:blipFill>
          <a:blip r:embed="rId5"/>
          <a:stretch/>
        </p:blipFill>
        <p:spPr>
          <a:xfrm>
            <a:off x="5348160" y="1197000"/>
            <a:ext cx="3333960" cy="424800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Алтайский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19640" y="1197000"/>
            <a:ext cx="52783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0 г. - идея создания Мирового центра космической философии на Алтае, как синтетического мыслительного и исследовательского цен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2-93 гг. - изучение  возможности создания базы реабилитации космонавтов на Алта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SWScan00033"/>
          <p:cNvPicPr/>
          <p:nvPr/>
        </p:nvPicPr>
        <p:blipFill>
          <a:blip r:embed="rId2"/>
          <a:stretch/>
        </p:blipFill>
        <p:spPr>
          <a:xfrm>
            <a:off x="3851280" y="3933720"/>
            <a:ext cx="4176720" cy="273528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26" name="Picture 7" descr="SWScan00035"/>
          <p:cNvPicPr/>
          <p:nvPr/>
        </p:nvPicPr>
        <p:blipFill>
          <a:blip r:embed="rId3"/>
          <a:stretch/>
        </p:blipFill>
        <p:spPr>
          <a:xfrm>
            <a:off x="395280" y="1484280"/>
            <a:ext cx="2832120" cy="410364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419280" y="1600200"/>
            <a:ext cx="526716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3-96 гг. - серия  международных конференций "Алтай-Космос-Микрокосм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4 г. - зарегистрирован Институт Уймонской Долины как первый шаг к МЦКФ (не реализов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тайский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SWScan00036"/>
          <p:cNvPicPr/>
          <p:nvPr/>
        </p:nvPicPr>
        <p:blipFill>
          <a:blip r:embed="rId2"/>
          <a:stretch/>
        </p:blipFill>
        <p:spPr>
          <a:xfrm>
            <a:off x="3971880" y="3902040"/>
            <a:ext cx="4200480" cy="279072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31" name="Picture 9" descr="SWScan00045"/>
          <p:cNvPicPr/>
          <p:nvPr/>
        </p:nvPicPr>
        <p:blipFill>
          <a:blip r:embed="rId3"/>
          <a:stretch/>
        </p:blipFill>
        <p:spPr>
          <a:xfrm>
            <a:off x="324000" y="1774800"/>
            <a:ext cx="2663640" cy="345456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ститут космической поли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 в 1993 г. форме некоммерческой организации по инициативе В.Постышева и И.Моисеева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ействует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тр передачи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 в 1996 г. при поддержке РКА в форме ЗАО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ейству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ститут гуманитарных космических исследо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 выдвинут Г.Хозиным, Л.Лесковым в 1994-1995 гг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 реализов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ГУП «Российские технолог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н в 1997 г. по указу Президента РФ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шёл в состав ФГУП «Рособоронэкспор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294920" y="144000"/>
            <a:ext cx="81010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МКК - инкубатор новых структ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4"/>
          <p:cNvPicPr/>
          <p:nvPr/>
        </p:nvPicPr>
        <p:blipFill>
          <a:blip r:embed="rId2">
            <a:lum contrast="-24000"/>
          </a:blip>
          <a:stretch/>
        </p:blipFill>
        <p:spPr>
          <a:xfrm>
            <a:off x="1619280" y="2276640"/>
            <a:ext cx="314280" cy="431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aj_2"/>
          <p:cNvPicPr/>
          <p:nvPr/>
        </p:nvPicPr>
        <p:blipFill>
          <a:blip r:embed="rId3"/>
          <a:stretch/>
        </p:blipFill>
        <p:spPr>
          <a:xfrm>
            <a:off x="7885080" y="836640"/>
            <a:ext cx="685800" cy="676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Труды МК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kk-1"/>
          <p:cNvPicPr/>
          <p:nvPr/>
        </p:nvPicPr>
        <p:blipFill>
          <a:blip r:embed="rId1"/>
          <a:stretch/>
        </p:blipFill>
        <p:spPr>
          <a:xfrm>
            <a:off x="0" y="2565360"/>
            <a:ext cx="1797120" cy="2546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mkk-2"/>
          <p:cNvPicPr/>
          <p:nvPr/>
        </p:nvPicPr>
        <p:blipFill>
          <a:blip r:embed="rId2"/>
          <a:stretch/>
        </p:blipFill>
        <p:spPr>
          <a:xfrm>
            <a:off x="1042920" y="2924280"/>
            <a:ext cx="1797120" cy="2546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mkk-3"/>
          <p:cNvPicPr/>
          <p:nvPr/>
        </p:nvPicPr>
        <p:blipFill>
          <a:blip r:embed="rId3"/>
          <a:stretch/>
        </p:blipFill>
        <p:spPr>
          <a:xfrm>
            <a:off x="2556000" y="3213000"/>
            <a:ext cx="1796760" cy="2546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mkk-4"/>
          <p:cNvPicPr/>
          <p:nvPr/>
        </p:nvPicPr>
        <p:blipFill>
          <a:blip r:embed="rId4"/>
          <a:stretch/>
        </p:blipFill>
        <p:spPr>
          <a:xfrm>
            <a:off x="4140360" y="3429000"/>
            <a:ext cx="1796760" cy="254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mkk-5"/>
          <p:cNvPicPr/>
          <p:nvPr/>
        </p:nvPicPr>
        <p:blipFill>
          <a:blip r:embed="rId5"/>
          <a:stretch/>
        </p:blipFill>
        <p:spPr>
          <a:xfrm>
            <a:off x="5724360" y="3789360"/>
            <a:ext cx="1797120" cy="254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mkk-6"/>
          <p:cNvPicPr/>
          <p:nvPr/>
        </p:nvPicPr>
        <p:blipFill>
          <a:blip r:embed="rId6"/>
          <a:stretch/>
        </p:blipFill>
        <p:spPr>
          <a:xfrm>
            <a:off x="7346880" y="4076640"/>
            <a:ext cx="1797120" cy="2543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даются с 1995 г. в сотрудничестве с ФКА, ЦНИИМАШ, Российской академией космонавтики им. К.Э.Циолко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7" descr="Рисунок1"/>
          <p:cNvPicPr/>
          <p:nvPr/>
        </p:nvPicPr>
        <p:blipFill>
          <a:blip r:embed="rId7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2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Космическая комиссия Всесоюзного СМУ и С ЦК ВЛКС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WScan00036"/>
          <p:cNvPicPr/>
          <p:nvPr/>
        </p:nvPicPr>
        <p:blipFill>
          <a:blip r:embed="rId2"/>
          <a:stretch/>
        </p:blipFill>
        <p:spPr>
          <a:xfrm>
            <a:off x="1187280" y="907920"/>
            <a:ext cx="7274160" cy="5062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3" name="Rectangle 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66"/>
                </a:solidFill>
                <a:latin typeface="Arial"/>
              </a:rPr>
              <a:t>Предыстория МК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Концепция Клуба </a:t>
            </a:r>
            <a:br>
              <a:rPr sz="4000"/>
            </a:b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(2005 г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036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убные встречи руководителей и специалистов космической отра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суждение актуальных проблем отечественной и мировой космонав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ие группы по проек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, издание трудов МК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ственно-политическ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6092640"/>
            <a:ext cx="8640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Конкурс журналистов за полет в космос (1989-199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WScan00026"/>
          <p:cNvPicPr/>
          <p:nvPr/>
        </p:nvPicPr>
        <p:blipFill>
          <a:blip r:embed="rId1"/>
          <a:stretch/>
        </p:blipFill>
        <p:spPr>
          <a:xfrm>
            <a:off x="108000" y="1052640"/>
            <a:ext cx="1425600" cy="4886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6" name="Picture 6" descr="SWScan00029"/>
          <p:cNvPicPr/>
          <p:nvPr/>
        </p:nvPicPr>
        <p:blipFill>
          <a:blip r:embed="rId2"/>
          <a:stretch/>
        </p:blipFill>
        <p:spPr>
          <a:xfrm>
            <a:off x="1692360" y="1052640"/>
            <a:ext cx="7350120" cy="3286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7" name="Rectangle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66"/>
                </a:solidFill>
                <a:latin typeface="Arial"/>
              </a:rPr>
              <a:t>Предыстория МК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SWScan00047"/>
          <p:cNvPicPr/>
          <p:nvPr/>
        </p:nvPicPr>
        <p:blipFill>
          <a:blip r:embed="rId3"/>
          <a:stretch/>
        </p:blipFill>
        <p:spPr>
          <a:xfrm>
            <a:off x="6804000" y="2708280"/>
            <a:ext cx="2282760" cy="3543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Рисунок1"/>
          <p:cNvPicPr/>
          <p:nvPr/>
        </p:nvPicPr>
        <p:blipFill>
          <a:blip r:embed="rId4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3640" y="5877000"/>
            <a:ext cx="843588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Пример Национального космического клуба США(199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SWScan00039"/>
          <p:cNvPicPr/>
          <p:nvPr/>
        </p:nvPicPr>
        <p:blipFill>
          <a:blip r:embed="rId2"/>
          <a:stretch/>
        </p:blipFill>
        <p:spPr>
          <a:xfrm>
            <a:off x="3862440" y="2570040"/>
            <a:ext cx="4813200" cy="3164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63" name="Picture 5" descr="SWScan00040"/>
          <p:cNvPicPr/>
          <p:nvPr/>
        </p:nvPicPr>
        <p:blipFill>
          <a:blip r:embed="rId3"/>
          <a:stretch/>
        </p:blipFill>
        <p:spPr>
          <a:xfrm>
            <a:off x="468360" y="1052640"/>
            <a:ext cx="4406760" cy="2997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4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66"/>
                </a:solidFill>
                <a:latin typeface="Arial"/>
              </a:rPr>
              <a:t>Предыстория МК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566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С 1989 г. в редакции газеты "Правда" проходили встречи специалистов разных направлений космонавтик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WScan00038"/>
          <p:cNvPicPr/>
          <p:nvPr/>
        </p:nvPicPr>
        <p:blipFill>
          <a:blip r:embed="rId2"/>
          <a:stretch/>
        </p:blipFill>
        <p:spPr>
          <a:xfrm>
            <a:off x="1476360" y="907920"/>
            <a:ext cx="6335640" cy="4537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8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66"/>
                </a:solidFill>
                <a:latin typeface="Arial"/>
              </a:rPr>
              <a:t>Предыстория МК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Обстановка в стране и космической отрасли в 1990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0840" y="170028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рьба коммунистов и демокр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ий кризис, угроза гол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винение космонавтики в расходе средств и неокуп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сты, заинтересованные в сохранении космонавтики, стремятся к объедин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Колб"/>
          <p:cNvPicPr/>
          <p:nvPr/>
        </p:nvPicPr>
        <p:blipFill>
          <a:blip r:embed="rId1"/>
          <a:stretch/>
        </p:blipFill>
        <p:spPr>
          <a:xfrm>
            <a:off x="4932360" y="1701720"/>
            <a:ext cx="3835440" cy="446400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1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SWScan00006"/>
          <p:cNvPicPr/>
          <p:nvPr/>
        </p:nvPicPr>
        <p:blipFill>
          <a:blip r:embed="rId2"/>
          <a:stretch/>
        </p:blipFill>
        <p:spPr>
          <a:xfrm>
            <a:off x="4357800" y="630360"/>
            <a:ext cx="4174920" cy="517500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8147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Учредительное собрание состоялось 29 ноября 1990 г. Присутствовало около 60 человек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SWScan00005"/>
          <p:cNvPicPr/>
          <p:nvPr/>
        </p:nvPicPr>
        <p:blipFill>
          <a:blip r:embed="rId3"/>
          <a:stretch/>
        </p:blipFill>
        <p:spPr>
          <a:xfrm>
            <a:off x="826920" y="689040"/>
            <a:ext cx="2867040" cy="346068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76" name="Rectangle 8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66"/>
                </a:solidFill>
                <a:latin typeface="Arial"/>
              </a:rPr>
              <a:t>Создание Клуба</a:t>
            </a: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SWScan00001"/>
          <p:cNvPicPr/>
          <p:nvPr/>
        </p:nvPicPr>
        <p:blipFill>
          <a:blip r:embed="rId4"/>
          <a:stretch/>
        </p:blipFill>
        <p:spPr>
          <a:xfrm>
            <a:off x="328680" y="3848040"/>
            <a:ext cx="3811680" cy="188604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Первые шаги МК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206064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ное участие в обсуждении проблем космонавтики в СМИ и в рамках конференци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Кому нужен Космос на Земле?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февраль 1991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 Клуба принять участие в  полит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Концепция космической деятельности в СССР-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7 декабря 1990 г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 Клубе начат анализ положения в отечественной космонавтике и поиск путей выхода из кризисного состоя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нварь 1991 г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дана в печать статья с обоснованием космической рефор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Обложка"/>
          <p:cNvPicPr/>
          <p:nvPr/>
        </p:nvPicPr>
        <p:blipFill>
          <a:blip r:embed="rId1"/>
          <a:stretch/>
        </p:blipFill>
        <p:spPr>
          <a:xfrm>
            <a:off x="6156360" y="2205000"/>
            <a:ext cx="2333520" cy="357192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84" name="Picture 6" descr="Рисунок1"/>
          <p:cNvPicPr/>
          <p:nvPr/>
        </p:nvPicPr>
        <p:blipFill>
          <a:blip r:embed="rId2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07:44:55Z</dcterms:created>
  <dc:creator>Lobashov</dc:creator>
  <dc:description/>
  <dc:language>en-US</dc:language>
  <cp:lastModifiedBy>im</cp:lastModifiedBy>
  <dcterms:modified xsi:type="dcterms:W3CDTF">2008-05-06T05:22:44Z</dcterms:modified>
  <cp:revision>65</cp:revision>
  <dc:subject/>
  <dc:title>Слайд 1</dc:title>
</cp:coreProperties>
</file>